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AFCC-9F2C-454D-BA8D-314C04187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A7EA-73D4-43FD-9C1E-EA20DC8E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D477-E521-42CA-8B9C-C55B8B74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8B54-D017-4456-83A5-A43D509E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56E4-5E2B-4CAA-9742-6E44D3DB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052D-90FF-46D8-8BBE-E35ED83E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0C08-639F-46DD-AEEB-6C69B648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7BE5-B66E-49C2-B0B6-D69D0DC6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33FA-BF1B-4B25-9224-51E95D6C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4208-5B74-4485-A6EE-564523EE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A4B1-25DC-44D2-8C05-5E5064A1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DF3A-3EB5-49CD-B748-88A0492C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17"/>
            </a:gs>
            <a:gs pos="5000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0024-E818-4D39-9212-46EDFAED0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17"/>
            </a:gs>
            <a:gs pos="5000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ersuasive Strateg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21733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17"/>
            </a:gs>
            <a:gs pos="5000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iz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gg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60020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technique makes you think about everyon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95480"/>
            <a:ext cx="701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eenagers agree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4114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know that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rs feel…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502920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time a group of people or everyone is mentioned, then the author has either generalized or exaggerat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95680" y="2286000"/>
            <a:ext cx="4191120" cy="175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17"/>
            </a:gs>
            <a:gs pos="5000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pinion Stated As Fa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21932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uthor states his opinion, but makes it sound as if it is a fa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429000"/>
            <a:ext cx="701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wberry is the best flavor of ice cream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572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ar A. Poe’s work is bor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525780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time an author doesn’t defend a statement with actual research, data, etc… be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21957" t="11111" r="25343" b="0"/>
          <a:stretch/>
        </p:blipFill>
        <p:spPr>
          <a:xfrm>
            <a:off x="6934320" y="1066680"/>
            <a:ext cx="1966680" cy="4572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00400" y="2057400"/>
            <a:ext cx="2743200" cy="1752480"/>
          </a:xfrm>
          <a:prstGeom prst="cloudCallout">
            <a:avLst>
              <a:gd name="adj1" fmla="val 93810"/>
              <a:gd name="adj2" fmla="val -633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 is so much fu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17"/>
            </a:gs>
            <a:gs pos="5000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motionally “Loaded”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9810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uthor uses words to  make the reader feel an emotion. (anger, fear, etc…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89548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only a dollar a day, you can feed a starving child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4114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love your dog enough to give him the best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502920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time an author uses words that make you feel something – identify the emotion and the words used to caus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989280" cy="99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391520" y="838080"/>
            <a:ext cx="1104840" cy="1524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276720" y="1066680"/>
            <a:ext cx="645840" cy="703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724280" y="914400"/>
            <a:ext cx="1994040" cy="96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17"/>
            </a:gs>
            <a:gs pos="5000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oint/Counter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3716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you acknowledge the other point of view, and then slam it down with your 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514600"/>
            <a:ext cx="7543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a tank top may be cooler during the warmer months, it is inappropriate for an educational sett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4114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soda tastes really good, the calories do not provide nutrition and can cause health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02920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time an author acknowledges the opposite perspective and then puts it down with his own point of view, P/CP is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745320" y="1371600"/>
            <a:ext cx="2398680" cy="19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17"/>
            </a:gs>
            <a:gs pos="5000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atistic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4479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uthor uses research (data, numbers, etc.) to prove his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236232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survey of WMS students, 1 in 3 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3657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% of doctors agree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6483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time an author includes numbers, data or research to prove his point, statistics is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0" y="2362320"/>
            <a:ext cx="1676520" cy="177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17"/>
            </a:gs>
            <a:gs pos="5000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g Na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14300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uthor uses famous people to support his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2286000"/>
            <a:ext cx="5791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bron James thinks Nike is the best brand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3733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President Obama uses a Blackberry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464832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time an author uses the name of a famous person to support his point, Big Names is being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697800" y="304920"/>
            <a:ext cx="207792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6:52:34Z</dcterms:created>
  <dc:creator>FCPS</dc:creator>
  <dc:description/>
  <dc:language>en-US</dc:language>
  <cp:lastModifiedBy>FCPS</cp:lastModifiedBy>
  <dcterms:modified xsi:type="dcterms:W3CDTF">2009-03-26T18:13:29Z</dcterms:modified>
  <cp:revision>5</cp:revision>
  <dc:subject/>
  <dc:title>Persuasive Strategies</dc:title>
</cp:coreProperties>
</file>